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B8A9-363A-4B03-9756-2C7412CEB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E89-1449-442D-9B0D-CD21701A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3B3-C837-44F1-9596-04480D33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2C4-A2AB-4965-8706-56808F88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B735-29D2-42A5-8C99-5F666189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6162-72A6-4E68-9ED1-935B3E40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D111-CFFE-4AB8-8C44-56156970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F6F4-7BA5-4BAD-A46A-43AB7A9B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C6D9-36FF-481E-B443-C1D43A67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4062-2FAE-4B1F-8B2E-7066D088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E00B-3BCD-43DE-8B4A-52077B3A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E0D-AD45-4844-9EC5-E27B0884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8A4B-7E2F-4007-859D-57504422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77E7-77C5-4014-A8EF-972F2CDE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2AEF-EF8B-4D84-AEA7-2368B21A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D2EA-79C6-4D0B-8F9E-3EEF76B0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C61D-31DB-406F-B548-D862ED2D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E4DDE-84CE-4087-AF86-BF23B332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17AA3-1AFB-497B-B936-CC38B002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A9839-FDA7-4258-B6DE-9E6D3644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54345-E362-440D-9362-04E396CC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47F44-EF6C-42E3-829E-B24BA09A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EAA-122D-4C84-83E8-9F218D8F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F3A46-0CFD-4CA8-A083-6C754269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D8BA9-5594-4532-B5D3-DA57725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C80BF-52DA-40B1-93FB-F275249B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84E96-AD12-47A7-9152-5F0CDB40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5B2735-CFAF-4CE8-A1B6-6CE1153D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F61ED-D92C-46BA-A7E7-72D3CA77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1825A-8396-4F39-8FF1-325C143F9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FB5F6-456D-4101-AEFC-FA00CAC1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8A6A9-A405-470C-B4A8-CBFA7C5A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2C66-A435-440B-92A3-15C5E519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F579-384B-467D-9BA9-F8E50FDF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4F94-9BF7-4226-AC14-0A6EFA8C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C80DD-D596-4C5E-AD5B-7EF99827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0E085-FBF2-4611-A094-BEDCC09A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70512-3A36-4EB3-900A-73E722F2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A1F90-CD43-47BC-82A9-D79859FF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BA13-2E2B-4013-96D3-D0B18158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CB9B-1D2E-4E74-8B7B-A2F86B80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5D1B3-8533-4E89-9979-15EBD68B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2733B-7531-46FD-9B7B-37DB9CB1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ED2CE8-FA59-4AAA-A975-03C09346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0F8-EBC9-4383-B975-E60F76A5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B2322-79F0-4495-821A-D7DDA298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7ED6B9-1521-44CA-B7F8-9AEF9344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E3E99-8862-47E5-8EC7-982441B6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99F49-C52D-44EF-ABC7-A7775739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8D7B0-A88F-42F0-8576-BB43C72F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4EB28-8DEE-41CB-B9EA-FDF93C1B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A1AA8-1F2E-4AF8-9B44-BAC5A715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2C5A6B-0BB2-4CF3-B24E-EBF90EC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16B3C-7FC5-423B-BFD8-DFB9E443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36BED7-C986-4715-A576-0D2D50FE4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C94-017F-4839-947A-EFE79C55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9FCCA1-3E08-4711-A928-A6CE8C7B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05A72F-A27C-40D1-8DDE-6C8C8B7C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0FF57-D9F6-4C25-A2B7-E6281E24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4705B9-5C05-4D7E-8AB8-57465CC4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F8080-F344-41DE-BA7D-C2161270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38861-F230-4F19-A9F5-8865956D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D42D6-1CD5-40E1-8A3E-99845274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2F52B-BE17-4E31-9358-12D3A5C6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526907-B299-4B09-AB91-5313F70A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943A0-CECE-4168-8C58-A90434A7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1ED-2998-4A2B-9CA3-422DB04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C2DBF6-D389-40DD-85B7-6AC284E1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DCF9F-1F04-4639-8092-68BAD863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01E54-4D07-49D3-93D1-54A1CD76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B31BE-9223-4D27-AF6B-2A523E49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09EB4-EB37-4CFB-BBF0-8CAF7AFD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73A61-F4B7-4AB6-A4CC-B4C24DB9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4864C3-9242-4945-98A3-9EFCABD3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3081E-823C-4623-BB46-7232332B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A3FD4F-E062-42DD-AF19-CD0D41B6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A256F-760A-478C-BE22-5CFA2949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AAA-F7A8-4261-81FB-C80F0C4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B1F6E-C903-466F-AEA2-1E18EF46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C1E5B-1579-4445-AF6C-C02FE07D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897AA-DED2-4CE1-9893-03FF5FBF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1D6B0E-8A01-4C57-AF18-A2267461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1B5CB-ACD6-40FC-8A95-C667BD2A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7CDF-C60A-4F19-A8B5-B2B59D45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5553-AC4D-4F67-AC28-3C064CD97B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EB8E-71B6-4793-8EF6-17EACE9DA2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6666-BE3B-42FB-BE39-8D72E45F18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0C80-0AF1-492B-9581-996D88B0FCE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D342-E9C2-4D2C-8CA0-0B1FD56611A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3149-921B-44D9-9213-04C75FD6FB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B597-E6FF-478E-BA93-EAD5CD7A3D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219320"/>
            <a:ext cx="6172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Page 128 – Avancemos 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n English, as in Spanish, you can use impersonal expressions with infinitives to state an opinion or to make indirect or subtle suggestion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t’s important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to tell 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the truth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Es importante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deci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la verdad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To state an opinion, or to suggest that something should be done without indicating who should do it, use an impersonal expression plus an infinitive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Impersonal expressions combine the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usted/él/ella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form of the verb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ser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and an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adjective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(The verb ser can be in any tense.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56236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Add the </a:t>
            </a:r>
            <a:r>
              <a:rPr b="1" lang="en-US" sz="4000" spc="-1" strike="noStrike">
                <a:solidFill>
                  <a:srgbClr val="b32c16"/>
                </a:solidFill>
                <a:latin typeface="Century Schoolbook"/>
              </a:rPr>
              <a:t>infinitive</a:t>
            </a: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to state your opinion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Es malo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presenta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información falsa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000000"/>
                </a:solidFill>
                <a:latin typeface="Century Schoolbook"/>
              </a:rPr>
              <a:t>It’s bad </a:t>
            </a:r>
            <a:r>
              <a:rPr b="1" i="1" lang="es-ES" sz="4000" spc="-1" strike="noStrike">
                <a:solidFill>
                  <a:srgbClr val="b32c16"/>
                </a:solidFill>
                <a:latin typeface="Century Schoolbook"/>
              </a:rPr>
              <a:t>to present </a:t>
            </a:r>
            <a:r>
              <a:rPr b="1" i="1" lang="es-ES" sz="4000" spc="-1" strike="noStrike">
                <a:solidFill>
                  <a:srgbClr val="000000"/>
                </a:solidFill>
                <a:latin typeface="Century Schoolbook"/>
              </a:rPr>
              <a:t>false information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Fue bueno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entrevista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al director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It was good </a:t>
            </a:r>
            <a:r>
              <a:rPr b="1" i="1" lang="en-US" sz="4000" spc="-1" strike="noStrike">
                <a:solidFill>
                  <a:srgbClr val="b32c16"/>
                </a:solidFill>
                <a:latin typeface="Century Schoolbook"/>
              </a:rPr>
              <a:t>to interview </a:t>
            </a: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the director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Era interesante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escucha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las entrevista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It was interesting </a:t>
            </a:r>
            <a:r>
              <a:rPr b="1" i="1" lang="en-US" sz="4000" spc="-1" strike="noStrike">
                <a:solidFill>
                  <a:srgbClr val="b32c16"/>
                </a:solidFill>
                <a:latin typeface="Century Schoolbook"/>
              </a:rPr>
              <a:t>to listen </a:t>
            </a: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to the interviews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IMPERSONAL EXPRESSIONS + INFINITIVE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Va a ser difícil </a:t>
            </a:r>
            <a:r>
              <a:rPr b="1" lang="es-ES" sz="4000" spc="-1" strike="noStrike">
                <a:solidFill>
                  <a:srgbClr val="b32c16"/>
                </a:solidFill>
                <a:latin typeface="Century Schoolbook"/>
              </a:rPr>
              <a:t>cancelar</a:t>
            </a:r>
            <a:r>
              <a:rPr b="1" lang="es-ES" sz="4000" spc="-1" strike="noStrike">
                <a:solidFill>
                  <a:srgbClr val="000000"/>
                </a:solidFill>
                <a:latin typeface="Century Schoolbook"/>
              </a:rPr>
              <a:t> la teletón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It’s going to be difficult </a:t>
            </a:r>
            <a:r>
              <a:rPr b="1" i="1" lang="en-US" sz="4000" spc="-1" strike="noStrike">
                <a:solidFill>
                  <a:srgbClr val="b32c16"/>
                </a:solidFill>
                <a:latin typeface="Century Schoolbook"/>
              </a:rPr>
              <a:t>to cancel </a:t>
            </a: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the telethon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23:07:03Z</dcterms:created>
  <dc:creator>Suzanne</dc:creator>
  <dc:description/>
  <dc:language>en-US</dc:language>
  <cp:lastModifiedBy>Suzanne</cp:lastModifiedBy>
  <dcterms:modified xsi:type="dcterms:W3CDTF">2009-10-03T23:22:23Z</dcterms:modified>
  <cp:revision>1</cp:revision>
  <dc:subject/>
  <dc:title>Impersonal Expressions + Infinitive</dc:title>
</cp:coreProperties>
</file>